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282-9298-467C-899A-F49BCEC3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777-39BA-4642-875D-9E354712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9E9-E5DC-4EE7-87AD-76487E0B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919-3C6A-4F6E-990B-01F63676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D35E-B729-4820-BDFD-3B501AE0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7ABB-AEFF-4EA8-A9F2-BF81CA54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3060-025A-4F5D-B934-B0D90582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352E-D0DE-47E2-B905-255B6C4C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7D14-D901-4400-9774-3CC97AA2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4E3A-D9C1-4C64-A91E-0384FA6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52B-5932-4800-B001-4F46A57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4CC-F535-4BC7-B5D1-54A1A655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1A1D-2626-4A1A-A8EC-0672431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BF4E-D99C-4E4B-87EE-5550ACAD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328E-043C-4A9E-AF53-3551FCB0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5C24-F59F-43AC-B7BA-A924669E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9648-0DFA-4BBE-95DE-C723246A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669-1567-4523-87B0-2882F24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E8D-A87A-4D70-BE97-04C13A6E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258-4180-44EA-9BA0-7BEC872A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7CE-D129-43D1-B551-7BA2D3F8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B25-8027-407A-87F6-0D0B1E33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E7B-3483-4A91-AD1E-D597B84C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DE5-E1C0-45FA-910D-97BB110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526A-BD55-413B-AE55-8FE0383A199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A878-7915-4B0B-9C3E-CDB05322961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грамма профилактики буллинга в образовательных учреждени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(для учителе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26028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итуации травли учитель ничего не может сделать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Очевидно, что эта проблема заслуживае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ольшого внимани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14200" y="1500120"/>
          <a:ext cx="8137800" cy="4291200"/>
        </p:xfrm>
        <a:graphic>
          <a:graphicData uri="http://schemas.openxmlformats.org/drawingml/2006/table">
            <a:tbl>
              <a:tblPr/>
              <a:tblGrid>
                <a:gridCol w="2319480"/>
                <a:gridCol w="3324240"/>
                <a:gridCol w="2494080"/>
              </a:tblGrid>
              <a:tr h="39229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  можно понять, что в Вашем классе этой проблемы не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ие есть  способы предупреждения этой проблемы 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то  можно сделать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появились первые признаки проблемы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280" y="1341360"/>
            <a:ext cx="8785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работе с буллингом важно четко понимать и соблюдать последовательность действий. Сначала надо пресечь буллинг, и лишь затем актуальность обретает помощь жертве с психологическими и поведенческими проблемами. Если сначала проводить социальный тренинг или подобные мероприятия, то это сообщает жертве и остальным, что она сама виновата в травле. Это деструктивно для жертвы и окажет опасное воздействие на учеников и школьную атмосферу в ц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ециалисты школьного отде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33336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 буллинг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или травл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можно говорить тогда, когда один или несколько индивид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гулярн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на протяжении длительного времен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вергаются негативным действия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 стороны одного или нескольких индивид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(Ден Ольвеус 1983г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209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дивиду, подвергающемуся буллингу, обычно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легко себя защитить – он, как правило, относительно беспомощен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сора между примерно равными по соотношению сил индивидов не является буллинг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Значимость этого аспекта была отмечена еще в 1983 году, когда в Норвегии была проведена первая в мире компания, направленная против моббинга.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пространенность буллинг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3% школьников имеют опы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жер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%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причем в больших городах уровень буллинга выше, чем в сельской местности (Россия) (Ениколоп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5% подростков хотя бы раз участвовали в буллинге (Россия) (Собкин, Маркина, 200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   68% учеников средней школы быва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идетел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травли в школе (Канада)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c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m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terhou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a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1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– нормальный и безвредный процесс взросления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(буллинг, моббинг) в школе – проблема, с которой сталкиваются очень многие. Буллинг – не нормативный и не безвредный этап взросления. Буллинг – это насилие, имеющее тяжелые последствия для всех участников и сообщества в целом. Буллинг привычен для российской действительности, сложно его обнаруживать, сложно обсуждать, сложно изменять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.               отношени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к нему,  как к норме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жертвы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испытывают сложности со здоровьем и успеваемостью, в три раза чаще сверстников имеют симптомы тревожно-депрессивных расстройств, апатию, головные боли и энурез, совершают попытки суицид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Kowalsk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mbe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gatston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11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Van der Wa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e Wit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irasing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03)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часто отмечаются низкая успеваемость, прогулы, драки, воровство, вандализм, хранение оружия, употребление алкоголя и таб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r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4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arofal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l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Kes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1998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yni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n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t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2001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lwe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3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ей с необычным поведением будут обижать в любом коллектив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59:02Z</dcterms:created>
  <dc:creator>User</dc:creator>
  <dc:description/>
  <dc:language>en-US</dc:language>
  <cp:lastModifiedBy>Administrator</cp:lastModifiedBy>
  <dcterms:modified xsi:type="dcterms:W3CDTF">2014-02-16T15:16:48Z</dcterms:modified>
  <cp:revision>88</cp:revision>
  <dc:subject/>
  <dc:title>Программа профилактики буллинга в образовательных учреждениях</dc:title>
</cp:coreProperties>
</file>